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14F-CBAC-4A2D-B04A-76937478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FBCE-A57F-4EEC-8315-59ADAF23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CD08-39D0-46A4-AD5B-AEBBDF8D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637B-5D48-46FF-8950-A633FE97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0D23-87A2-4E97-B8DD-C2673E71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7920-9775-408E-8E0E-9B0B4117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4AF8-9D43-4D57-8B7C-69192A5E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2F1C-ADC0-4E6C-A980-7FD92075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097C-A07D-40B6-8431-0A43CA76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8D47-DC4E-41A9-899D-C57FC451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38EB-659A-434B-B48B-A2D26DD3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2030-FB11-4BB0-941D-E5D40EC5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4078-C569-4154-94E6-B1F0F20FF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st Like Josh Gibs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nics and Spell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24080" y="3352680"/>
            <a:ext cx="2629080" cy="2630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1422360" cy="1851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391520" y="228600"/>
            <a:ext cx="142236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y Phonics – 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Hide and Seek (Decodable Reader 26).  List the contractions in the story and the words the contraction stands f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n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first wo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2004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7632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2590920"/>
            <a:ext cx="7596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Phonics – Da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se words in the correct column for spelling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taught</a:t>
            </a: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   talk</a:t>
            </a: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     launch</a:t>
            </a: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d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August   fault</a:t>
            </a: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     chalk   </a:t>
            </a: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s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caught   launch   th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au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a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</a:t>
            </a: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49528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41911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1911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41911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 Reading – Day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cc"/>
                </a:solidFill>
                <a:latin typeface="Arial"/>
              </a:rPr>
              <a:t>I guess you saw the pretty wha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Did you see them laugh in math and scienc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We watch those dolphins and wish they were pe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Arial"/>
              </a:rPr>
              <a:t>That photo of a bunch of shrimp won the conte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0093"/>
                </a:solidFill>
                <a:latin typeface="Arial"/>
              </a:rPr>
              <a:t>The garden patch near the village has enough flow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My shoe is rough, and my foots starts to itch when I wear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ction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ad the sentence and circle the spelling wo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Don’t you know if they’re here ye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 don’t see it – I should’ve found it by n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Arial"/>
              </a:rPr>
              <a:t>Don’t ask them if they’d been t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I would’ve called you but you’d just left the ho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0:48:35Z</dcterms:created>
  <dc:creator> </dc:creator>
  <dc:description/>
  <dc:language>en-US</dc:language>
  <cp:lastModifiedBy> </cp:lastModifiedBy>
  <dcterms:modified xsi:type="dcterms:W3CDTF">2008-03-26T01:04:33Z</dcterms:modified>
  <cp:revision>2</cp:revision>
  <dc:subject/>
  <dc:title>Apply Phonics – Day 1</dc:title>
</cp:coreProperties>
</file>